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9EA-6A74-41F9-98DB-60E3E566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ADA-168D-416D-BD58-196583BD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6A2-DF99-4C29-B9D0-BF81D731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4FF-A48B-45D2-BC8B-95DC7FD6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CFD-21D5-4077-A1A9-A647CD2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C2C-B57C-4632-A988-064506D8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277-53E9-433F-AA43-E3C35770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EAA-1679-4DC4-8F89-2CF49BC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3EE-7BAD-4610-8C5E-8798A6A6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91C-F473-4D6F-B1EE-E1965F3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88F-6B22-4D04-BF31-E6AA5A2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A96-30CC-4905-B6A5-F682D52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C9C-E262-4771-817D-6445986DA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e llamo _______ Clase 6 nm</a:t>
            </a: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La fecha es el 19 de marzo d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4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¿Estas listo/a para tu exa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8 (12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 (16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9 (2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 y 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29 (24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18 (Minimum of 10 Spanish Sent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6:21:52Z</dcterms:created>
  <dc:creator>Helen Zumaeta</dc:creator>
  <dc:description/>
  <dc:language>en-US</dc:language>
  <cp:lastModifiedBy>Helen Zumaeta</cp:lastModifiedBy>
  <dcterms:modified xsi:type="dcterms:W3CDTF">2013-03-19T19:54:44Z</dcterms:modified>
  <cp:revision>9</cp:revision>
  <dc:subject/>
  <dc:title>Me llamo _______ Clase 6nh/il La fecha es el 15 de junio del 2011</dc:title>
</cp:coreProperties>
</file>